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7C5E9-9C21-4AD5-9E5C-6A6F361EB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2C6FB-2FCB-47B2-ABCD-8DAC3102F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93508-E904-41DD-966B-73459CF69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17C45-63F3-401C-A969-6D55337D0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89B6D-8BB3-48A7-ABB4-074687004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F9DE4-A12E-49D8-8E52-EDE1AEFC0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BDB8F-2211-48FD-AD0E-EAE18F00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B7EB1-3CA2-4F1B-A3A5-4ADB14138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EE433-ACB8-4762-98EE-4439D97A6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76B6C-CAF8-4FE9-8FC5-1FAD86D6C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2B3EF-0913-4CFB-B363-4B4F8E78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2E23B-BF61-4ED3-A4A9-DECA83C30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88BCB-9244-4B38-92E9-47CE2D63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F6429-AA87-4461-BF89-334BA2AE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38A41-18CF-4C3B-913F-D92236CCC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D87BC-3190-45B0-BAF8-C811D9C4C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7D764-505C-45D4-99B9-C25B8A288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B28D4-BF65-4E4A-93FE-04E6B4EB9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9F27F-EE59-43AF-BD6F-44F39E49F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984A4-B9C5-4296-B9F6-D60245209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EA936-5F0F-477F-825C-D9426A02A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E7F6B-7AC9-458D-9472-52951008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4DBC3-8D91-4DE8-ACE4-90AE1E32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B3FC6-F621-4A04-9290-55B56CC9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B8EFE-24DE-4E26-86A0-BFFAA76E55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78671-F9E8-47F7-A32B-3F3D8FAF6D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yword Cryptanalysis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Crypt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st basic observation of cryptanalysis is that every letter of a language has a personality of its 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every plaintext t is changed to a ciphertext m, then in the ciphertext, m assumes the personality of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he trained observer, the personality of a letter gives away its identit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of these personality characteristics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quency of occur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ct with other le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on within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71167-5AFC-4AAF-8E30-091BB8FBE1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1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 English Frequency 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Frequency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 T  A  O  N  I  R  S  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um Frequency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 L U C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Frequency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F Y W G B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re Gro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 K Q X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911760" y="4332240"/>
            <a:ext cx="4765680" cy="2286000"/>
            <a:chOff x="3911760" y="4332240"/>
            <a:chExt cx="4765680" cy="2286000"/>
          </a:xfrm>
        </p:grpSpPr>
        <p:sp>
          <p:nvSpPr>
            <p:cNvPr id="118" name=""/>
            <p:cNvSpPr/>
            <p:nvPr/>
          </p:nvSpPr>
          <p:spPr>
            <a:xfrm>
              <a:off x="3911760" y="4332240"/>
              <a:ext cx="4765680" cy="22860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988080" y="4484520"/>
              <a:ext cx="4537080" cy="200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There is usually a sharp brea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between the high and medium groups. That is, H is usually 6% and D is usually 4%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SO:  look for the break between the high and medium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E4506-0D1D-433A-B2C8-B08E870448F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1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1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ngle Frequency Reas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gs to look for in a frequency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re are hills and valleys similar to standard English then the cipher is most likely a substitution, s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break between high frequency and medium frequency (look for a 2% drop between two let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st frequent letter is probably “e” or at least “t” or “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492F4-C88C-4043-BBF1-98FD62F571B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 Frequency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7840" y="1571760"/>
            <a:ext cx="8229600" cy="16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it is one of the most useful tools in cryptanalysis, CAP provides a frequency analysis win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Frequency under the Basic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859040" y="3200400"/>
            <a:ext cx="4481280" cy="3502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CDFE9-C918-4778-834E-C02045617B2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quency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 will display the frequency in a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the Graph menu and click on s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68440" y="3363840"/>
            <a:ext cx="7772400" cy="303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61735-FD70-4BD1-8F95-34B27CBEC4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word Workshe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98360" y="192672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have some possible substitutions test them using  the keyword worksheet to manually look for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416320" y="3411360"/>
            <a:ext cx="5128920" cy="3446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EB5B8-7A4B-4BEE-98A4-F3AD8D7F97B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06T01:37:58Z</dcterms:modified>
  <cp:revision>51</cp:revision>
  <dc:subject/>
  <dc:title>CAP Cryptographic Analysis Program</dc:title>
</cp:coreProperties>
</file>